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D083-BEC8-4BE7-83A7-2781E4BC7BB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 – medžiagos, 2 – gamybos išlaidos, 3 – darbo užmokestis, 4 – Sodra, 5 – honorarai, 6 – transportas, 7 – ryšių paslaugos, 8 – fotografijos išlaidos, 9 – kitos išlai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 – medžiagos, 2 – gamybos išlaidos, 3 – darbo užmokestis, 4 – Sodra, 5 – honorarai, 6 – transportas, 7 – ryšių paslaugos, 8 – fotografijos išlaidos, 9 – kitos išlai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 – medžiagos, 2 – gamybos išlaidos, 3 – darbo užmokestis, 4 – Sodra, 5 – honorarai, 6 – transportas, 7 – ryšių paslaugos, 8 – fotografijos išlaidos, 9 – kitos išlaid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-Kultūros, meno ir mokslo populiarinimas žiniasklaidoje; 2-Meno ir mokslo kūrėjų bei kitų profesinių grupių raiška; 3-Vaikų ir jaunimo estetinis, etinis ir kūrybinis švietimas; 4-Regioninės bei etninės kultūros, Lietuvos tautų kultūrinio savitumo sklaida; 5-Pilietinės visuomenės formavimas, visuomenės sąmoningumo kėlimas bei savišvietos skatinim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-Kultūros, meno ir mokslo populiarinimas žiniasklaidoje; 2-Meno ir mokslo kūrėjų bei kitų profesinių grupių raiška; 3-Vaikų ir jaunimo estetinis, etinis ir kūrybinis švietimas; 4-Regioninės bei etninės kultūros, Lietuvos tautų kultūrinio savitumo sklaida; 5-Pilietinės visuomenės formavimas, visuomenės sąmoningumo kėlimas bei savišvietos skatinim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-Kultūros, meno ir mokslo populiarinimas žiniasklaidoje; 2-Meno ir mokslo kūrėjų bei kitų profesinių grupių raiška; 3-Vaikų ir jaunimo estetinis, etinis ir kūrybinis švietimas; 4-Regioninės bei etninės kultūros, Lietuvos tautų kultūrinio savitumo sklaida; 5-Pilietinės visuomenės formavimas, visuomenės sąmoningumo kėlimas bei savišvietos skatinim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1-Kultūros, meno ir mokslo populiarinimas žiniasklaidoje; 2-Meno ir mokslo kūrėjų bei kitų profesinių grupių raiška; 3-Vaikų ir jaunimo estetinis, etinis ir kūrybinis švietimas; 4-Regioninės bei etninės kultūros, Lietuvos tautų kultūrinio savitumo sklaida; 5-Pilietinės visuomenės formavimas, visuomenės sąmoningumo kėlimas bei savišvietos skatinim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FA14-D167-4667-8A88-A2BFB4C7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418-C915-465E-96A7-45851746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72F-4B61-45D7-8CFF-366E1DCB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30C-A49E-47FC-BF2C-E7EB692D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3063-C946-4798-A36C-6ADA8C25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329C-DD4C-401C-A793-66F72A684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3E21-EB4D-4588-92A8-8CDD9414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C8DE-327A-458C-878D-787CA17DD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74A9-F677-47E1-8A08-EFDC62EB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C747-54C3-4AEF-BD9D-A5B75264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6243-8768-40C3-8633-A7FEB9C1A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26BB-9468-4ACB-ABE9-634E1A7D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CD86-67D1-4420-BB41-88DE20FBD85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Dalyvavimas SRTRF konkursuos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Internetinės progra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755640" y="2708280"/>
          <a:ext cx="3809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08280"/>
                    <a:ext cx="3809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076720" y="2997360"/>
          <a:ext cx="2970360" cy="198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2997360"/>
                    <a:ext cx="297036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Vaikų ir jaunimo programų skla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525680" y="20066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066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Išlaidų sąmata (I program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47640" y="1989000"/>
          <a:ext cx="6096240" cy="40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989000"/>
                    <a:ext cx="6096240" cy="40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Išlaidos pagal sąnaudas (II program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33600" y="2006640"/>
          <a:ext cx="60768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3600" y="2006640"/>
                    <a:ext cx="60768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Išlaidos pagal sąnaudas audiovizualinėms programo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2000160"/>
          <a:ext cx="6096240" cy="40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00160"/>
                    <a:ext cx="6096240" cy="40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Išlaidos pagal sąnaudas spaudos programom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525680" y="20066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066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Spaudos programų finansavimas pagal priorite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525680" y="20066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066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TV/radijo programų finansavimas pagal priorite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25680" y="20066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066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Interneto prgramų finansavimas pagal prioritet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525680" y="20066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066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Finansavimas pagal prioritetus (tūkst.L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525680" y="20066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066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Kultūros ir švietimo pr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am</a:t>
            </a: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ų žiniasklaidoje finansavima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11280" y="184464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84464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Televizijos programos (programo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525680" y="20066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20066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Televizijos programų finansavimas (tūkst. Lt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258920" y="198900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98900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Mėnesinių žurnalų skla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Savaitraščių lėšos per metus tūkst. 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Savaitraščių sklaid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Mėnesinių žurnalų lėšos per metus tūkst. L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Pr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am</a:t>
            </a: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ų finansavimas pagal informavimo priemonių pobūd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Fondo remiam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s</a:t>
            </a: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 pr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amos</a:t>
            </a: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 pagal informacijos pobūd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Times New Roman"/>
              </a:rPr>
              <a:t>Spaudos, radijo, TV, interneto pro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ram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219320" y="2438280"/>
          <a:ext cx="7772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438280"/>
                    <a:ext cx="7772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09:45:38Z</dcterms:created>
  <dc:creator>Vygintas Gontis</dc:creator>
  <dc:description/>
  <dc:language>en-US</dc:language>
  <cp:lastModifiedBy>Mykolas Karciauskas</cp:lastModifiedBy>
  <dcterms:modified xsi:type="dcterms:W3CDTF">2005-04-28T08:22:37Z</dcterms:modified>
  <cp:revision>78</cp:revision>
  <dc:subject/>
  <dc:title>Fondo veiklos diagramos 2002 metais</dc:title>
</cp:coreProperties>
</file>